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"/>
          </p:nvPr>
        </p:nvSpPr>
        <p:spPr>
          <a:xfrm>
            <a:off x="392904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sldImg"/>
          </p:nvPr>
        </p:nvSpPr>
        <p:spPr>
          <a:xfrm>
            <a:off x="1562040" y="692280"/>
            <a:ext cx="3905280" cy="269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body"/>
          </p:nvPr>
        </p:nvSpPr>
        <p:spPr>
          <a:xfrm>
            <a:off x="923400" y="3619080"/>
            <a:ext cx="5362920" cy="490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ftr" idx="2"/>
          </p:nvPr>
        </p:nvSpPr>
        <p:spPr>
          <a:xfrm>
            <a:off x="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 type="sldNum" idx="3"/>
          </p:nvPr>
        </p:nvSpPr>
        <p:spPr>
          <a:xfrm>
            <a:off x="392904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1A1FC99-4B4B-4733-A251-B24D31869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83FFB70-B462-45A6-9766-0B0B03690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716120" y="692280"/>
            <a:ext cx="3597120" cy="26985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23400" y="3619080"/>
            <a:ext cx="536292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716120" y="692280"/>
            <a:ext cx="3597120" cy="26985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3400" y="3619080"/>
            <a:ext cx="536292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E8B54E3-F100-4B3B-995A-B7992762E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716120" y="692280"/>
            <a:ext cx="3597120" cy="26985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3400" y="3619080"/>
            <a:ext cx="536292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B15D982-FE51-450A-8170-87DB1D4A3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FD785F6-C50D-4D3D-B96A-46EA3444F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716120" y="692280"/>
            <a:ext cx="3597120" cy="26985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23400" y="3619080"/>
            <a:ext cx="536292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D848C3B-1FA3-4830-A3B5-DDA78E034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716120" y="692280"/>
            <a:ext cx="3597120" cy="269856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23400" y="3619080"/>
            <a:ext cx="536292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716120" y="692280"/>
            <a:ext cx="3597120" cy="26985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23400" y="3619080"/>
            <a:ext cx="536292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84974D4-655A-4A58-9D14-385A5C729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716120" y="692280"/>
            <a:ext cx="3597120" cy="26985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3400" y="3619080"/>
            <a:ext cx="536292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17566D7-594E-44EB-9CF0-D0D59117E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716120" y="692280"/>
            <a:ext cx="3597120" cy="26985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3400" y="3619080"/>
            <a:ext cx="536292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D7C6F81-2A04-4CB4-93F4-AA75F543B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8600" y="408996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318600" y="136080"/>
            <a:ext cx="80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45032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600" y="408996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45032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04488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77080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31860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04488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77080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5032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318600" y="136080"/>
            <a:ext cx="80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45032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18600" y="408996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45032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4488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7080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860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4488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7080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04488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77080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31860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04488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577080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18600" y="136080"/>
            <a:ext cx="80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5032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18600" y="408996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5032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4488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7080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1860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4488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7080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18600" y="136080"/>
            <a:ext cx="80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45032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18600" y="408996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45032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04488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7080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1860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04488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77080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18600" y="136080"/>
            <a:ext cx="80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45032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18600" y="408996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45032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4488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7080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1860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4488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7080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18600" y="136080"/>
            <a:ext cx="80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45032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8600" y="408996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45032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8600" y="136080"/>
            <a:ext cx="80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04488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77080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1860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04488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77080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318600" y="136080"/>
            <a:ext cx="80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45032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8600" y="408996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45032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4488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77080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31860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04488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577080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318600" y="136080"/>
            <a:ext cx="80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5032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45032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18600" y="408996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45032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04488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77080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31860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04488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77080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318600" y="136080"/>
            <a:ext cx="80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45032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18600" y="408996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45032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04488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77080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31860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04488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77080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169560">
              <a:spcBef>
                <a:spcPts val="451"/>
              </a:spcBef>
              <a:spcAft>
                <a:spcPts val="451"/>
              </a:spcAft>
              <a:buClr>
                <a:srgbClr val="00458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68440" indent="-169920">
              <a:spcBef>
                <a:spcPts val="451"/>
              </a:spcBef>
              <a:spcAft>
                <a:spcPts val="451"/>
              </a:spcAft>
              <a:buClr>
                <a:srgbClr val="00458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77760" indent="-172800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-228600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1468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1468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72" descr="PPT_LOGO_4b"/>
          <p:cNvPicPr/>
          <p:nvPr/>
        </p:nvPicPr>
        <p:blipFill>
          <a:blip r:embed="rId2"/>
          <a:stretch/>
        </p:blipFill>
        <p:spPr>
          <a:xfrm>
            <a:off x="8550360" y="0"/>
            <a:ext cx="593640" cy="68594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75"/>
          <p:cNvSpPr/>
          <p:nvPr/>
        </p:nvSpPr>
        <p:spPr>
          <a:xfrm>
            <a:off x="4572000" y="6672240"/>
            <a:ext cx="304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7E9C-C80D-44C4-99D8-C4A0D289EA1E}" type="slidenum">
              <a:rPr b="0" lang="en-US" sz="6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1" i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76"/>
          <p:cNvSpPr/>
          <p:nvPr/>
        </p:nvSpPr>
        <p:spPr>
          <a:xfrm>
            <a:off x="318960" y="6672240"/>
            <a:ext cx="365616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69696"/>
                </a:solidFill>
                <a:latin typeface="Arial"/>
              </a:rPr>
              <a:t>© 2006 Autodesk </a:t>
            </a:r>
            <a:endParaRPr b="1" i="1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5"/>
          <p:cNvSpPr/>
          <p:nvPr/>
        </p:nvSpPr>
        <p:spPr>
          <a:xfrm>
            <a:off x="318960" y="6573960"/>
            <a:ext cx="2210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595959"/>
                </a:solidFill>
                <a:latin typeface="Arial"/>
              </a:rPr>
              <a:t>© 2006 Autodesk </a:t>
            </a:r>
            <a:endParaRPr b="1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4572000" y="657396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4276-671D-4892-871B-E5B90AA3575E}" type="slidenum">
              <a:rPr b="1" i="1" lang="en-US" sz="8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1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9" descr="seg_black"/>
          <p:cNvPicPr/>
          <p:nvPr/>
        </p:nvPicPr>
        <p:blipFill>
          <a:blip r:embed="rId2"/>
          <a:stretch/>
        </p:blipFill>
        <p:spPr>
          <a:xfrm>
            <a:off x="5943600" y="0"/>
            <a:ext cx="3200400" cy="685944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318600" y="1415880"/>
            <a:ext cx="821556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f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aa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aa00"/>
              </a:solidFill>
              <a:latin typeface="Arial"/>
            </a:endParaRPr>
          </a:p>
          <a:p>
            <a:pPr lvl="1" marL="347760" indent="-233280">
              <a:spcBef>
                <a:spcPts val="451"/>
              </a:spcBef>
              <a:spcAft>
                <a:spcPts val="451"/>
              </a:spcAft>
              <a:buClr>
                <a:srgbClr val="00aad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aa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aa00"/>
              </a:solidFill>
              <a:latin typeface="Arial"/>
            </a:endParaRPr>
          </a:p>
          <a:p>
            <a:pPr lvl="2" marL="690480" indent="-228600">
              <a:spcBef>
                <a:spcPts val="451"/>
              </a:spcBef>
              <a:spcAft>
                <a:spcPts val="451"/>
              </a:spcAft>
              <a:buClr>
                <a:srgbClr val="77bb1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aa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aa00"/>
              </a:solidFill>
              <a:latin typeface="Arial"/>
            </a:endParaRPr>
          </a:p>
          <a:p>
            <a:pPr lvl="3" marL="1031760" indent="-226800">
              <a:spcBef>
                <a:spcPts val="451"/>
              </a:spcBef>
              <a:spcAft>
                <a:spcPts val="451"/>
              </a:spcAft>
              <a:buClr>
                <a:srgbClr val="ffaa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aa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aa00"/>
              </a:solidFill>
              <a:latin typeface="Arial"/>
            </a:endParaRPr>
          </a:p>
          <a:p>
            <a:pPr lvl="4" marL="1371600" indent="-222120">
              <a:spcBef>
                <a:spcPts val="451"/>
              </a:spcBef>
              <a:spcAft>
                <a:spcPts val="451"/>
              </a:spcAft>
              <a:buClr>
                <a:srgbClr val="96969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aa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aa00"/>
              </a:solidFill>
              <a:latin typeface="Arial"/>
            </a:endParaRPr>
          </a:p>
          <a:p>
            <a:pPr lvl="5" marL="1371600" indent="-22212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aa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aa00"/>
              </a:solidFill>
              <a:latin typeface="Arial"/>
            </a:endParaRPr>
          </a:p>
          <a:p>
            <a:pPr lvl="6" marL="1371600" indent="-22212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aa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aa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318600" y="136080"/>
            <a:ext cx="8215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spcAft>
                <a:spcPts val="451"/>
              </a:spcAft>
              <a:buClr>
                <a:srgbClr val="00b4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23920">
              <a:spcBef>
                <a:spcPts val="451"/>
              </a:spcBef>
              <a:spcAft>
                <a:spcPts val="451"/>
              </a:spcAft>
              <a:buClr>
                <a:srgbClr val="00b4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22392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28600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28600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PPT_LOGO_4b"/>
          <p:cNvPicPr/>
          <p:nvPr/>
        </p:nvPicPr>
        <p:blipFill>
          <a:blip r:embed="rId2"/>
          <a:stretch/>
        </p:blipFill>
        <p:spPr>
          <a:xfrm>
            <a:off x="8550360" y="0"/>
            <a:ext cx="59364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4572000" y="6672240"/>
            <a:ext cx="304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D3EF-C740-40BC-B0DE-9D7F2821E24D}" type="slidenum">
              <a:rPr b="0" lang="en-US" sz="6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1" i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18960" y="6672240"/>
            <a:ext cx="365616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69696"/>
                </a:solidFill>
                <a:latin typeface="Arial"/>
              </a:rPr>
              <a:t>© 2006 Autodesk </a:t>
            </a:r>
            <a:endParaRPr b="1" i="1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18960" y="6573960"/>
            <a:ext cx="2210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</a:rPr>
              <a:t>© 2006 Autodesk </a:t>
            </a:r>
            <a:endParaRPr b="1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318600" y="1415880"/>
            <a:ext cx="821556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-233280">
              <a:spcBef>
                <a:spcPts val="451"/>
              </a:spcBef>
              <a:spcAft>
                <a:spcPts val="451"/>
              </a:spcAft>
              <a:buClr>
                <a:srgbClr val="00aad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90480" indent="-228600">
              <a:spcBef>
                <a:spcPts val="451"/>
              </a:spcBef>
              <a:spcAft>
                <a:spcPts val="451"/>
              </a:spcAft>
              <a:buClr>
                <a:srgbClr val="00aad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977760" indent="-172800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14680" indent="-228600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1468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1468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4572000" y="657396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F95C-4A2E-4E7F-93E5-D8C6982ABAAA}" type="slidenum">
              <a:rPr b="0" lang="en-US" sz="8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1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318600" y="136080"/>
            <a:ext cx="8215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6" descr="bar_only_black"/>
          <p:cNvPicPr/>
          <p:nvPr/>
        </p:nvPicPr>
        <p:blipFill>
          <a:blip r:embed="rId2"/>
          <a:stretch/>
        </p:blipFill>
        <p:spPr>
          <a:xfrm>
            <a:off x="8550360" y="0"/>
            <a:ext cx="59364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318600" y="1415880"/>
            <a:ext cx="81392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84040" indent="-169560">
              <a:spcBef>
                <a:spcPts val="374"/>
              </a:spcBef>
              <a:spcAft>
                <a:spcPts val="374"/>
              </a:spcAft>
              <a:buClr>
                <a:srgbClr val="00aad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8440" indent="-169920">
              <a:spcBef>
                <a:spcPts val="374"/>
              </a:spcBef>
              <a:spcAft>
                <a:spcPts val="374"/>
              </a:spcAft>
              <a:buClr>
                <a:srgbClr val="00aad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77760" indent="-172800">
              <a:spcBef>
                <a:spcPts val="374"/>
              </a:spcBef>
              <a:spcAft>
                <a:spcPts val="374"/>
              </a:spcAft>
              <a:buClr>
                <a:srgbClr val="ffffff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14680" indent="-228600">
              <a:spcBef>
                <a:spcPts val="374"/>
              </a:spcBef>
              <a:spcAft>
                <a:spcPts val="374"/>
              </a:spcAft>
              <a:buClr>
                <a:srgbClr val="ffffff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714680" indent="-2286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714680" indent="-2286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318600" y="136080"/>
            <a:ext cx="8139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PPT_LOGO_4b"/>
          <p:cNvPicPr/>
          <p:nvPr/>
        </p:nvPicPr>
        <p:blipFill>
          <a:blip r:embed="rId2"/>
          <a:stretch/>
        </p:blipFill>
        <p:spPr>
          <a:xfrm>
            <a:off x="8550360" y="0"/>
            <a:ext cx="593640" cy="68594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4572000" y="6672240"/>
            <a:ext cx="304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E38E-499F-400F-A78A-DBDBD2B7347D}" type="slidenum">
              <a:rPr b="0" lang="en-US" sz="6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1" i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318960" y="6672240"/>
            <a:ext cx="365616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69696"/>
                </a:solidFill>
                <a:latin typeface="Arial"/>
              </a:rPr>
              <a:t>© 2006 Autodesk </a:t>
            </a:r>
            <a:endParaRPr b="1" i="1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318960" y="6573960"/>
            <a:ext cx="2210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595959"/>
                </a:solidFill>
                <a:latin typeface="Arial"/>
              </a:rPr>
              <a:t>© 2006 Autodesk </a:t>
            </a:r>
            <a:endParaRPr b="1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18600" y="1415880"/>
            <a:ext cx="821556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f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aa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aa00"/>
              </a:solidFill>
              <a:latin typeface="Arial"/>
            </a:endParaRPr>
          </a:p>
          <a:p>
            <a:pPr lvl="1" marL="347760" indent="-233280">
              <a:spcBef>
                <a:spcPts val="451"/>
              </a:spcBef>
              <a:spcAft>
                <a:spcPts val="451"/>
              </a:spcAft>
              <a:buClr>
                <a:srgbClr val="00aad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aa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aa00"/>
              </a:solidFill>
              <a:latin typeface="Arial"/>
            </a:endParaRPr>
          </a:p>
          <a:p>
            <a:pPr lvl="2" marL="690480" indent="-228600">
              <a:spcBef>
                <a:spcPts val="451"/>
              </a:spcBef>
              <a:spcAft>
                <a:spcPts val="451"/>
              </a:spcAft>
              <a:buClr>
                <a:srgbClr val="77bb1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aa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aa00"/>
              </a:solidFill>
              <a:latin typeface="Arial"/>
            </a:endParaRPr>
          </a:p>
          <a:p>
            <a:pPr lvl="3" marL="1031760" indent="-226800">
              <a:spcBef>
                <a:spcPts val="451"/>
              </a:spcBef>
              <a:spcAft>
                <a:spcPts val="451"/>
              </a:spcAft>
              <a:buClr>
                <a:srgbClr val="ffaa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aa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aa00"/>
              </a:solidFill>
              <a:latin typeface="Arial"/>
            </a:endParaRPr>
          </a:p>
          <a:p>
            <a:pPr lvl="4" marL="1371600" indent="-222120">
              <a:spcBef>
                <a:spcPts val="451"/>
              </a:spcBef>
              <a:spcAft>
                <a:spcPts val="451"/>
              </a:spcAft>
              <a:buClr>
                <a:srgbClr val="96969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aa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aa00"/>
              </a:solidFill>
              <a:latin typeface="Arial"/>
            </a:endParaRPr>
          </a:p>
          <a:p>
            <a:pPr lvl="5" marL="1371600" indent="-22212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aa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aa00"/>
              </a:solidFill>
              <a:latin typeface="Arial"/>
            </a:endParaRPr>
          </a:p>
          <a:p>
            <a:pPr lvl="6" marL="1371600" indent="-22212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aa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aa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4572000" y="657396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1400-E3EE-4E77-B159-8D0EEE57BBE1}" type="slidenum">
              <a:rPr b="1" i="1" lang="en-US" sz="8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1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318600" y="136080"/>
            <a:ext cx="8215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13" descr="bar_only_black"/>
          <p:cNvPicPr/>
          <p:nvPr/>
        </p:nvPicPr>
        <p:blipFill>
          <a:blip r:embed="rId2"/>
          <a:stretch/>
        </p:blipFill>
        <p:spPr>
          <a:xfrm>
            <a:off x="8550360" y="0"/>
            <a:ext cx="59364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0" descr="PPT_LOGO_1b"/>
          <p:cNvPicPr/>
          <p:nvPr/>
        </p:nvPicPr>
        <p:blipFill>
          <a:blip r:embed="rId2"/>
          <a:stretch/>
        </p:blipFill>
        <p:spPr>
          <a:xfrm>
            <a:off x="6172200" y="0"/>
            <a:ext cx="2971800" cy="685944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51"/>
          <p:cNvSpPr/>
          <p:nvPr/>
        </p:nvSpPr>
        <p:spPr>
          <a:xfrm>
            <a:off x="4572000" y="6672240"/>
            <a:ext cx="304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5272-5492-4C21-980F-3125619C81C5}" type="slidenum">
              <a:rPr b="0" lang="en-US" sz="6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1" i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169560">
              <a:spcBef>
                <a:spcPts val="451"/>
              </a:spcBef>
              <a:spcAft>
                <a:spcPts val="451"/>
              </a:spcAft>
              <a:buClr>
                <a:srgbClr val="00458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68440" indent="-169920">
              <a:spcBef>
                <a:spcPts val="451"/>
              </a:spcBef>
              <a:spcAft>
                <a:spcPts val="451"/>
              </a:spcAft>
              <a:buClr>
                <a:srgbClr val="00458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77760" indent="-172800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-228600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1468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1468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PPT_LOGO_1b"/>
          <p:cNvPicPr/>
          <p:nvPr/>
        </p:nvPicPr>
        <p:blipFill>
          <a:blip r:embed="rId2"/>
          <a:stretch/>
        </p:blipFill>
        <p:spPr>
          <a:xfrm>
            <a:off x="6172200" y="0"/>
            <a:ext cx="2971800" cy="685944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5"/>
          <p:cNvSpPr/>
          <p:nvPr/>
        </p:nvSpPr>
        <p:spPr>
          <a:xfrm>
            <a:off x="4572000" y="6672240"/>
            <a:ext cx="304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2530-5B19-4181-A839-00026E288B2F}" type="slidenum">
              <a:rPr b="0" lang="en-US" sz="6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1" i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spcAft>
                <a:spcPts val="451"/>
              </a:spcAft>
              <a:buClr>
                <a:srgbClr val="00b4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23920">
              <a:spcBef>
                <a:spcPts val="451"/>
              </a:spcBef>
              <a:spcAft>
                <a:spcPts val="451"/>
              </a:spcAft>
              <a:buClr>
                <a:srgbClr val="00b4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22392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28600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28600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4"/>
          <p:cNvSpPr/>
          <p:nvPr/>
        </p:nvSpPr>
        <p:spPr>
          <a:xfrm>
            <a:off x="318960" y="6573960"/>
            <a:ext cx="2210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</a:rPr>
              <a:t>© 2006 Autodesk </a:t>
            </a:r>
            <a:endParaRPr b="1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4572000" y="657396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5DF3-0E2C-4A97-A524-4AB4E9E6280E}" type="slidenum">
              <a:rPr b="0" lang="en-US" sz="8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1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6" descr="seg_black"/>
          <p:cNvPicPr/>
          <p:nvPr/>
        </p:nvPicPr>
        <p:blipFill>
          <a:blip r:embed="rId2"/>
          <a:stretch/>
        </p:blipFill>
        <p:spPr>
          <a:xfrm>
            <a:off x="5943600" y="0"/>
            <a:ext cx="3200400" cy="685944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318600" y="1415880"/>
            <a:ext cx="821556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-233280">
              <a:spcBef>
                <a:spcPts val="451"/>
              </a:spcBef>
              <a:spcAft>
                <a:spcPts val="451"/>
              </a:spcAft>
              <a:buClr>
                <a:srgbClr val="00aad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90480" indent="-228600">
              <a:spcBef>
                <a:spcPts val="451"/>
              </a:spcBef>
              <a:spcAft>
                <a:spcPts val="451"/>
              </a:spcAft>
              <a:buClr>
                <a:srgbClr val="00aad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977760" indent="-172800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14680" indent="-228600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1468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1468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318600" y="136080"/>
            <a:ext cx="8215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4" descr="PPT_LOGO_1b"/>
          <p:cNvPicPr/>
          <p:nvPr/>
        </p:nvPicPr>
        <p:blipFill>
          <a:blip r:embed="rId2"/>
          <a:stretch/>
        </p:blipFill>
        <p:spPr>
          <a:xfrm>
            <a:off x="6168960" y="0"/>
            <a:ext cx="2971800" cy="685944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5"/>
          <p:cNvSpPr/>
          <p:nvPr/>
        </p:nvSpPr>
        <p:spPr>
          <a:xfrm>
            <a:off x="318960" y="6672240"/>
            <a:ext cx="365616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69696"/>
                </a:solidFill>
                <a:latin typeface="Arial"/>
              </a:rPr>
              <a:t>© 2006 Autodesk </a:t>
            </a:r>
            <a:endParaRPr b="1" i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318600" y="1415880"/>
            <a:ext cx="81392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84040" indent="-169560">
              <a:spcBef>
                <a:spcPts val="374"/>
              </a:spcBef>
              <a:spcAft>
                <a:spcPts val="374"/>
              </a:spcAft>
              <a:buClr>
                <a:srgbClr val="00aad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8440" indent="-169920">
              <a:spcBef>
                <a:spcPts val="374"/>
              </a:spcBef>
              <a:spcAft>
                <a:spcPts val="374"/>
              </a:spcAft>
              <a:buClr>
                <a:srgbClr val="00aad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77760" indent="-172800">
              <a:spcBef>
                <a:spcPts val="374"/>
              </a:spcBef>
              <a:spcAft>
                <a:spcPts val="374"/>
              </a:spcAft>
              <a:buClr>
                <a:srgbClr val="ffffff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14680" indent="-228600">
              <a:spcBef>
                <a:spcPts val="374"/>
              </a:spcBef>
              <a:spcAft>
                <a:spcPts val="374"/>
              </a:spcAft>
              <a:buClr>
                <a:srgbClr val="ffffff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714680" indent="-2286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714680" indent="-2286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318600" y="136080"/>
            <a:ext cx="8139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msolutions.c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ISD_4"/>
          <p:cNvPicPr/>
          <p:nvPr/>
        </p:nvPicPr>
        <p:blipFill>
          <a:blip r:embed="rId1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3"/>
          <p:cNvSpPr/>
          <p:nvPr/>
        </p:nvSpPr>
        <p:spPr>
          <a:xfrm>
            <a:off x="318960" y="2857680"/>
            <a:ext cx="803916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M Solutions Group’s “Fusion” Technology Preview for MapGuide Open Source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318960" y="3622680"/>
            <a:ext cx="76536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ly 2007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2500200" cy="111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’s nex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sion will be the default mechanism for building MapGuide Open Source applications in the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be available as part of MapGuide Open Source releases in Fall of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Picture 6" descr=""/>
          <p:cNvPicPr/>
          <p:nvPr/>
        </p:nvPicPr>
        <p:blipFill>
          <a:blip r:embed="rId1"/>
          <a:stretch/>
        </p:blipFill>
        <p:spPr>
          <a:xfrm>
            <a:off x="3071880" y="4143240"/>
            <a:ext cx="2286000" cy="1020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usion” technology over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18960" y="1279440"/>
            <a:ext cx="88250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odern Web application development framework for MapGuide Open Source and Autodesk MapGuid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terpr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and maintained by DM Solutions Group (</a:t>
            </a:r>
            <a:r>
              <a:rPr b="0" lang="en-US" sz="2400" spc="-1" strike="noStrike" u="sng">
                <a:solidFill>
                  <a:srgbClr val="77bb11"/>
                </a:solidFill>
                <a:uFillTx/>
                <a:latin typeface="Arial"/>
                <a:hlinkClick r:id="rId1"/>
              </a:rPr>
              <a:t>www.dmsolutions.c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ology preview is freely available at the Open Source GeoSpatial (OSGeo) web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ibuted for inclusion in MapGuide Open Source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“Fusion” project name will be rebrand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“Fusion” technology?</a:t>
            </a:r>
            <a:br>
              <a:rPr sz="3600"/>
            </a:br>
            <a:r>
              <a:rPr b="0" lang="en-US" sz="2800" spc="-1" strike="noStrike">
                <a:solidFill>
                  <a:srgbClr val="00b4ff"/>
                </a:solidFill>
                <a:latin typeface="Arial"/>
              </a:rPr>
              <a:t>Web 2.0 best pract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Box 15"/>
          <p:cNvSpPr/>
          <p:nvPr/>
        </p:nvSpPr>
        <p:spPr>
          <a:xfrm>
            <a:off x="228600" y="1419120"/>
            <a:ext cx="49863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s styles from application development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 web designers and application developers work with tools of their choice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ctr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2" descr=""/>
          <p:cNvPicPr/>
          <p:nvPr/>
        </p:nvPicPr>
        <p:blipFill>
          <a:blip r:embed="rId1"/>
          <a:stretch/>
        </p:blipFill>
        <p:spPr>
          <a:xfrm>
            <a:off x="6523200" y="19080"/>
            <a:ext cx="2401560" cy="21877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3" descr=""/>
          <p:cNvPicPr/>
          <p:nvPr/>
        </p:nvPicPr>
        <p:blipFill>
          <a:blip r:embed="rId2"/>
          <a:stretch/>
        </p:blipFill>
        <p:spPr>
          <a:xfrm>
            <a:off x="5748480" y="878040"/>
            <a:ext cx="2371680" cy="21700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6" descr=""/>
          <p:cNvPicPr/>
          <p:nvPr/>
        </p:nvPicPr>
        <p:blipFill>
          <a:blip r:embed="rId3"/>
          <a:stretch/>
        </p:blipFill>
        <p:spPr>
          <a:xfrm>
            <a:off x="5450040" y="2322360"/>
            <a:ext cx="2371680" cy="218916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5" descr=""/>
          <p:cNvPicPr/>
          <p:nvPr/>
        </p:nvPicPr>
        <p:blipFill>
          <a:blip r:embed="rId4"/>
          <a:stretch/>
        </p:blipFill>
        <p:spPr>
          <a:xfrm>
            <a:off x="6278400" y="3103560"/>
            <a:ext cx="2359080" cy="21812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4" descr=""/>
          <p:cNvPicPr/>
          <p:nvPr/>
        </p:nvPicPr>
        <p:blipFill>
          <a:blip r:embed="rId5"/>
          <a:stretch/>
        </p:blipFill>
        <p:spPr>
          <a:xfrm>
            <a:off x="5748480" y="4608360"/>
            <a:ext cx="2341440" cy="2189160"/>
          </a:xfrm>
          <a:prstGeom prst="rect">
            <a:avLst/>
          </a:prstGeom>
          <a:ln w="0">
            <a:noFill/>
          </a:ln>
        </p:spPr>
      </p:pic>
      <p:sp>
        <p:nvSpPr>
          <p:cNvPr id="427" name="TextBox 21"/>
          <p:cNvSpPr/>
          <p:nvPr/>
        </p:nvSpPr>
        <p:spPr>
          <a:xfrm>
            <a:off x="2438280" y="4876920"/>
            <a:ext cx="2328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000"/>
                </a:solidFill>
                <a:latin typeface="Arial"/>
              </a:rPr>
              <a:t>One content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000"/>
                </a:solidFill>
                <a:latin typeface="Arial"/>
              </a:rPr>
              <a:t>Many styles. 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8000"/>
                            </p:stCondLst>
                            <p:childTnLst>
                              <p:par>
                                <p:cTn id="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3000"/>
                            </p:stCondLst>
                            <p:childTnLst>
                              <p:par>
                                <p:cTn id="2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8000"/>
                            </p:stCondLst>
                            <p:childTnLst>
                              <p:par>
                                <p:cTn id="2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5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“Fusion” technolog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sion” is an application SDK for MapGuide Open 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374"/>
              </a:spcBef>
              <a:spcAft>
                <a:spcPts val="374"/>
              </a:spcAft>
              <a:buClr>
                <a:srgbClr val="00b4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JavaScript® libr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374"/>
              </a:spcBef>
              <a:spcAft>
                <a:spcPts val="374"/>
              </a:spcAft>
              <a:buClr>
                <a:srgbClr val="00b4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erver-side libr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374"/>
              </a:spcBef>
              <a:spcAft>
                <a:spcPts val="374"/>
              </a:spcAft>
              <a:buClr>
                <a:srgbClr val="00b4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flexible interface design libr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374"/>
              </a:spcBef>
              <a:spcAft>
                <a:spcPts val="374"/>
              </a:spcAft>
              <a:buClr>
                <a:srgbClr val="00b4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ean separation of interface from function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374"/>
              </a:spcBef>
              <a:spcAft>
                <a:spcPts val="374"/>
              </a:spcAft>
              <a:buClr>
                <a:srgbClr val="00b4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ollection of interface widg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can use “Fusion” technolog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 desig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spcAft>
                <a:spcPts val="374"/>
              </a:spcAft>
              <a:buClr>
                <a:srgbClr val="00b4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 in Dreamwea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spcAft>
                <a:spcPts val="374"/>
              </a:spcAft>
              <a:buClr>
                <a:srgbClr val="00b4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HTML, CSS, minimal JavaScri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spcAft>
                <a:spcPts val="374"/>
              </a:spcAft>
              <a:buClr>
                <a:srgbClr val="00b4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erned with aesthetics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 develo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spcAft>
                <a:spcPts val="374"/>
              </a:spcAft>
              <a:buClr>
                <a:srgbClr val="00b4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 in favorite IDE (Zend,text edit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spcAft>
                <a:spcPts val="374"/>
              </a:spcAft>
              <a:buClr>
                <a:srgbClr val="00b4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JavaScript, PHP (ASP .NET, JS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spcAft>
                <a:spcPts val="374"/>
              </a:spcAft>
              <a:buClr>
                <a:srgbClr val="00b4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erned with function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nefits for web designers</a:t>
            </a:r>
            <a:br>
              <a:rPr sz="3600"/>
            </a:br>
            <a:r>
              <a:rPr b="0" lang="en-US" sz="2800" spc="-1" strike="noStrike">
                <a:solidFill>
                  <a:srgbClr val="00b4ff"/>
                </a:solidFill>
                <a:latin typeface="Arial"/>
              </a:rPr>
              <a:t>Fast, flexible, re-usable compon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71680" indent="-228600">
              <a:spcBef>
                <a:spcPts val="451"/>
              </a:spcBef>
              <a:spcAft>
                <a:spcPts val="451"/>
              </a:spcAft>
              <a:buClr>
                <a:srgbClr val="00b4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olkit flexibility separates the Web design and Web development ta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spcAft>
                <a:spcPts val="451"/>
              </a:spcAft>
              <a:buClr>
                <a:srgbClr val="00b4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rs can use the web design tools of their choice to create style sheets and design application lay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spcAft>
                <a:spcPts val="451"/>
              </a:spcAft>
              <a:buClr>
                <a:srgbClr val="00b4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ular architecture allows for “plug &amp; play” approach to design for required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spcAft>
                <a:spcPts val="451"/>
              </a:spcAft>
              <a:buClr>
                <a:srgbClr val="00b4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functionality can be isolated in the design process and defined for the application develo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nefits for web developers</a:t>
            </a:r>
            <a:br>
              <a:rPr sz="3600"/>
            </a:br>
            <a:r>
              <a:rPr b="0" lang="en-US" sz="2800" spc="-1" strike="noStrike">
                <a:solidFill>
                  <a:srgbClr val="00b4ff"/>
                </a:solidFill>
                <a:latin typeface="Arial"/>
              </a:rPr>
              <a:t>Deliver superior end-user experience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 AJAX / Web 2.0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b4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applications have minimal page refreshes resulting in lower server load and more responsive applications for u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b4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 level of interactivity emulates desktop-like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b4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development completed in Javascript, minimizing requirement for server-side scrip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ular Architecture and Open Source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b4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chitecture encourages easy addition of new function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b4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ular Architecture + Flexible Design = Maximum code re-use between projec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b4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ed and rapid development effort due to inputs from the open source development commu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20" descr=""/>
          <p:cNvPicPr/>
          <p:nvPr/>
        </p:nvPicPr>
        <p:blipFill>
          <a:blip r:embed="rId1"/>
          <a:stretch/>
        </p:blipFill>
        <p:spPr>
          <a:xfrm>
            <a:off x="4962600" y="3029040"/>
            <a:ext cx="3468600" cy="621180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18960" y="136080"/>
            <a:ext cx="9182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nefits for MapGuide Open Source</a:t>
            </a:r>
            <a:br>
              <a:rPr sz="3600"/>
            </a:br>
            <a:r>
              <a:rPr b="0" lang="en-US" sz="2800" spc="-1" strike="noStrike">
                <a:solidFill>
                  <a:srgbClr val="00b4ff"/>
                </a:solidFill>
                <a:latin typeface="Arial"/>
              </a:rPr>
              <a:t>Flexibility for design and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Box 15"/>
          <p:cNvSpPr/>
          <p:nvPr/>
        </p:nvSpPr>
        <p:spPr>
          <a:xfrm>
            <a:off x="228600" y="1419120"/>
            <a:ext cx="6705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izable library of web mapping tools and controls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d through open source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18" descr=""/>
          <p:cNvPicPr/>
          <p:nvPr/>
        </p:nvPicPr>
        <p:blipFill>
          <a:blip r:embed="rId2"/>
          <a:stretch/>
        </p:blipFill>
        <p:spPr>
          <a:xfrm>
            <a:off x="517680" y="3029040"/>
            <a:ext cx="3902040" cy="5846760"/>
          </a:xfrm>
          <a:prstGeom prst="rect">
            <a:avLst/>
          </a:prstGeom>
          <a:ln w="0">
            <a:noFill/>
          </a:ln>
        </p:spPr>
      </p:pic>
      <p:sp>
        <p:nvSpPr>
          <p:cNvPr id="440" name="TextBox 21"/>
          <p:cNvSpPr/>
          <p:nvPr/>
        </p:nvSpPr>
        <p:spPr>
          <a:xfrm>
            <a:off x="380880" y="2620800"/>
            <a:ext cx="426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c000"/>
                </a:solidFill>
                <a:latin typeface="Arial"/>
              </a:rPr>
              <a:t>Current MapGuide Open Source layout… 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21"/>
          <p:cNvSpPr/>
          <p:nvPr/>
        </p:nvSpPr>
        <p:spPr>
          <a:xfrm>
            <a:off x="5486400" y="2620800"/>
            <a:ext cx="28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c000"/>
                </a:solidFill>
                <a:latin typeface="Arial"/>
              </a:rPr>
              <a:t>… </a:t>
            </a:r>
            <a:r>
              <a:rPr b="1" i="1" lang="en-US" sz="1600" spc="-1" strike="noStrike">
                <a:solidFill>
                  <a:srgbClr val="ffc000"/>
                </a:solidFill>
                <a:latin typeface="Arial"/>
              </a:rPr>
              <a:t>and with “Fusion” 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500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25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7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ing “Fusion” technology tod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839628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sion” technology is already in use by several DM Solutions custo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ology preview will work with MapGuide Open Source 1.2 and Autodesk MapGuide Enterprise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wnload preview at OSGeo: 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http://mapguide.osgeo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6" descr=""/>
          <p:cNvPicPr/>
          <p:nvPr/>
        </p:nvPicPr>
        <p:blipFill>
          <a:blip r:embed="rId1"/>
          <a:stretch/>
        </p:blipFill>
        <p:spPr>
          <a:xfrm>
            <a:off x="3071880" y="4551480"/>
            <a:ext cx="2286000" cy="1020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todesk, Inc.</cp:lastModifiedBy>
  <dcterms:modified xsi:type="dcterms:W3CDTF">2007-07-20T21:04:18Z</dcterms:modified>
  <cp:revision>588</cp:revision>
  <dc:subject/>
  <dc:title>PowerPoint Presentation</dc:title>
</cp:coreProperties>
</file>